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DEE3A-FD47-4C10-AA1E-19D1155BF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4F34C-E2FD-421B-82DC-0080BD0A2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5C76-E6FC-4EF4-9707-65E64B311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D64FA-9967-48FE-A7FC-EA5AB695D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C869-4BE6-4CE9-9983-200CE9E3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C2EF-C7E6-465A-A56F-6AF089AB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0C86-3E1E-4DC2-BFBB-F1EA6B3BB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4E27-40A2-400C-A370-2BA172B4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BFC1-07CC-48FD-A578-FBDB456EF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1ABC-3566-494F-AAF2-21A5C3D9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A542-502F-49FC-9BB8-1A0A7EA6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D645-9905-4A59-AD6F-DA3C0513F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1785-C74B-4225-A6C0-F847048B9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www.quotesbuddy.com/uploads/2009/06/basketball-quotes-graphics-7.jpg&amp;imgrefurl=http://www.quotesbuddy.com/basketball-quotes/playing-against-the-game/&amp;usg=__s-ZLHZghplVKwvgF8thD7gXj8ck=&amp;h=960&amp;w=1280&amp;sz=180&amp;hl=en&amp;start=10&amp;zoom=1&amp;um=1&amp;itbs=1&amp;tbnid=7xR5OHUVv_JdyM:&amp;tbnh=113&amp;tbnw=150&amp;prev=/images%3Fq%3Dbasketball%2Bquotes%26um%3D1%26hl%3Den%26safe%3Dactive%26sa%3DN%26rlz%3D1T4SUNA_enUS289%26tbs%3Disch:1&amp;ei=kiVlTaKTK8jcgQeopYTTB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worldsportchicago.org/Portals/0/Sports/Basketball/FreeThrowGirl.jpg&amp;imgrefurl=http://www.worldsportchicago.org/sports/all-sports/basketball.aspx&amp;usg=__QaDbBtDDfOKFsgWNcMqjLEK7gU4=&amp;h=2560&amp;w=1700&amp;sz=275&amp;hl=en&amp;start=9&amp;zoom=1&amp;um=1&amp;itbs=1&amp;tbnid=jW3xz30E27rbHM:&amp;tbnh=150&amp;tbnw=100&amp;prev=/images%3Fq%3Dbasketball%2Bfree%2Bthrows%26um%3D1%26hl%3Den%26safe%3Dactive%26sa%3DN%26rls%3Dcom.microsoft:en-us%26tbs%3Disch:1&amp;ei=OPVbTf7nE8L6lwfS06DmCQ"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www.cheapjordanshoescom.com/images/Air-Jordan-3.5/Air-Jordan-3.5-Orange-Black.jpg&amp;imgrefurl=http://www.cheapjordanshoescom.com/air-jordan-35-orange-black-p-165.html&amp;usg=__Vbl4uoQgSczDxA2iLw8y2v_MNls=&amp;h=375&amp;w=500&amp;sz=64&amp;hl=en&amp;start=11&amp;zoom=1&amp;um=1&amp;itbs=1&amp;tbnid=Xbp-seQuZd2j-M:&amp;tbnh=98&amp;tbnw=130&amp;prev=/images%3Fq%3Djordan%2Bshoes%2Borange%26um%3D1%26hl%3Den%26safe%3Dactive%26sa%3DN%26rlz%3D1T4SUNA_enUS289%26tbs%3Disch:1&amp;ei=gyZlTYPeLcjngQfykJnGB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besportier.com/archives/air-jordan-23-basketball.jpg&amp;imgrefurl=http://www.besportier.com/archives/easyglider-the-new-way-to-ride-1.html&amp;usg=__WH373a_KoONFPaSi5GCEhfTQj4s=&amp;h=315&amp;w=538&amp;sz=22&amp;hl=en&amp;start=2&amp;zoom=1&amp;um=1&amp;itbs=1&amp;tbnid=PpX2CDpJCl35iM:&amp;tbnh=77&amp;tbnw=132&amp;prev=/images%3Fq%3Dbasketball%26um%3D1%26hl%3Den%26safe%3Dactive%26rls%3Dcom.microsoft:en-us%26tbs%3Disch:1&amp;ei=YvhbTZmmOoS8lQfj6f3tCQ" TargetMode="External"/><Relationship Id="rId2" Type="http://schemas.openxmlformats.org/officeDocument/2006/relationships/image" Target="../media/image5.jpeg"/><Relationship Id="rId3" Type="http://schemas.openxmlformats.org/officeDocument/2006/relationships/hyperlink" Target="http://www.google.com/imgres?imgurl=http://www.overlimitz.com/up_pimg/9/2008-4-16-14-31-943369.jpg&amp;imgrefurl=http://www.overlimitz.com/catalogs/60/jordans-basketball-shoes-boys-www-jordanshoes-ocm-cheap-jordan-vii-864555.html&amp;usg=__53bD_RrcrYhYMjgTFWfjYVj2qcw=&amp;h=400&amp;w=400&amp;sz=21&amp;hl=en&amp;start=30&amp;zoom=1&amp;um=1&amp;itbs=1&amp;tbnid=b4o1MS8W3fWpWM:&amp;tbnh=124&amp;tbnw=124&amp;prev=/images%3Fq%3Djordan%2Bbasketball%2Bshoes%26start%3D20%26um%3D1%26hl%3Den%26safe%3Dactive%26sa%3DN%26rls%3Dcom.microsoft:en-us%26ndsp%3D20%26tbs%3Disch:1&amp;ei=YflbTaW1GsH_lgei7bHlCQ"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s and Girls Free Throw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rityn Flickinger</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5380200"/>
            <a:ext cx="3352680" cy="14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onclus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  conclusion my hypothesis is wrong. The girls made more shots than the gu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be used for picking teams in gy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they NBA as we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191120" y="32004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Further Resear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ithout a doubt shooting/ free throws is the most important part of the game. If you miss your free throw there are people around on your team and other team that will try to get the rebound. You have ten sec to shoot a free throw. When you are shooting a free throw you have nobody around to block or mess up the shot. There are two people on your team that are going to rebound and three from the other team. The other players stand back behind the shooter. When you are shooting free throws, you need to have a routine and be confident. A common error is you feel really tens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been behind the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t more warm up sh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my student play basketball and some d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ime Spent</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16 hours</a:t>
            </a:r>
            <a:endParaRPr b="0" lang="en-US" sz="3200" spc="-1" strike="noStrike">
              <a:solidFill>
                <a:srgbClr val="000000"/>
              </a:solidFill>
              <a:latin typeface="Arial"/>
            </a:endParaRPr>
          </a:p>
        </p:txBody>
      </p:sp>
      <p:pic>
        <p:nvPicPr>
          <p:cNvPr id="77" name="" descr=""/>
          <p:cNvPicPr/>
          <p:nvPr/>
        </p:nvPicPr>
        <p:blipFill>
          <a:blip r:embed="rId1"/>
          <a:stretch/>
        </p:blipFill>
        <p:spPr>
          <a:xfrm>
            <a:off x="3809880" y="2895480"/>
            <a:ext cx="4648320" cy="330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say thank you to Mrs. Riffel for letting me test. Also I want to say thank you to Ms. Ball for letting me use her basketballs and thank you to my lovely tester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ketball Free Throw Rules." </a:t>
            </a:r>
            <a:r>
              <a:rPr b="0" i="1" lang="en-US" sz="2400" spc="-1" strike="noStrike">
                <a:solidFill>
                  <a:srgbClr val="000000"/>
                </a:solidFill>
                <a:latin typeface="Arial"/>
              </a:rPr>
              <a:t>http://www.livestrong.com/article/102074-basketball-throw-rules/</a:t>
            </a:r>
            <a:r>
              <a:rPr b="0" lang="en-US" sz="2400" spc="-1" strike="noStrike">
                <a:solidFill>
                  <a:srgbClr val="000000"/>
                </a:solidFill>
                <a:latin typeface="Arial"/>
              </a:rPr>
              <a:t>. 23 Feb. 2011. Web. 23 Jan. 2011</a:t>
            </a:r>
            <a:r>
              <a:rPr b="1" lang="en-US" sz="2400" spc="-1" strike="noStrike">
                <a:solidFill>
                  <a:srgbClr val="000000"/>
                </a:solidFill>
                <a:latin typeface="Arial"/>
              </a:rPr>
              <a:t>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Throw Finish." </a:t>
            </a:r>
            <a:r>
              <a:rPr b="0" i="1" lang="en-US" sz="2400" spc="-1" strike="noStrike">
                <a:solidFill>
                  <a:srgbClr val="000000"/>
                </a:solidFill>
                <a:latin typeface="Arial"/>
              </a:rPr>
              <a:t>http://www.somdnews.com/stories/02112011/entetop162011_32331.shtml</a:t>
            </a:r>
            <a:r>
              <a:rPr b="0" lang="en-US" sz="2400" spc="-1" strike="noStrike">
                <a:solidFill>
                  <a:srgbClr val="000000"/>
                </a:solidFill>
                <a:latin typeface="Arial"/>
              </a:rPr>
              <a:t>. 23 Feb. 2011. Web. 23 Jan. 2011</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ketball Free Throw Shooting." </a:t>
            </a:r>
            <a:r>
              <a:rPr b="0" i="1" lang="en-US" sz="2400" spc="-1" strike="noStrike">
                <a:solidFill>
                  <a:srgbClr val="000000"/>
                </a:solidFill>
                <a:latin typeface="Arial"/>
              </a:rPr>
              <a:t>http://EzineArticles.com/?expert=Hal_Wissel</a:t>
            </a:r>
            <a:r>
              <a:rPr b="0" lang="en-US" sz="2400" spc="-1" strike="noStrike">
                <a:solidFill>
                  <a:srgbClr val="000000"/>
                </a:solidFill>
                <a:latin typeface="Arial"/>
              </a:rPr>
              <a:t>. 23 Feb. 2011. Web. 23 Jan. 2011.</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ree throws are used when you foul. Who can make more free throws? I am a basketball player and I did this because I wanted to find out who made more.</a:t>
            </a:r>
            <a:endParaRPr b="0" lang="en-US" sz="3200" spc="-1" strike="noStrike">
              <a:solidFill>
                <a:srgbClr val="000000"/>
              </a:solidFill>
              <a:latin typeface="Arial"/>
            </a:endParaRPr>
          </a:p>
        </p:txBody>
      </p:sp>
      <p:pic>
        <p:nvPicPr>
          <p:cNvPr id="46" name="" descr=""/>
          <p:cNvPicPr/>
          <p:nvPr/>
        </p:nvPicPr>
        <p:blipFill>
          <a:blip r:embed="rId1"/>
          <a:stretch/>
        </p:blipFill>
        <p:spPr>
          <a:xfrm>
            <a:off x="5943600" y="365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testing who can make more free throws boys or girls. Each person gets three warm up shots and then five normal s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Back ground</a:t>
            </a:r>
            <a:r>
              <a:rPr b="0" lang="en-US" sz="4400" spc="-1" strike="noStrike">
                <a:solidFill>
                  <a:srgbClr val="000000"/>
                </a:solidFill>
                <a:latin typeface="Arial"/>
              </a:rPr>
              <a:t> </a:t>
            </a:r>
            <a:r>
              <a:rPr b="0" lang="en-US" sz="4400" spc="-1" strike="noStrike">
                <a:solidFill>
                  <a:srgbClr val="ff6600"/>
                </a:solidFill>
                <a:latin typeface="Arial"/>
              </a:rPr>
              <a:t>information</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458200" cy="45720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You shoot free throws when you get fouled.</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When you shoot free throws you shoot two at a tim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t shows that guys make more than gir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www.wiki.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a:hlinkClick r:id="rId1"/>
          </p:cNvPr>
          <p:cNvPicPr/>
          <p:nvPr/>
        </p:nvPicPr>
        <p:blipFill>
          <a:blip r:embed="rId2"/>
          <a:stretch/>
        </p:blipFill>
        <p:spPr>
          <a:xfrm>
            <a:off x="7264440" y="4038480"/>
            <a:ext cx="1879560" cy="2819520"/>
          </a:xfrm>
          <a:prstGeom prst="rect">
            <a:avLst/>
          </a:prstGeom>
          <a:ln w="0">
            <a:noFill/>
          </a:ln>
        </p:spPr>
      </p:pic>
      <p:sp>
        <p:nvSpPr>
          <p:cNvPr id="5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guys will make more free throws than girls. I think that because boys are stronger and can hit the h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Materi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all</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ve bo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ve gir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lip board</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y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a:hlinkClick r:id="rId1"/>
          </p:cNvPr>
          <p:cNvPicPr/>
          <p:nvPr/>
        </p:nvPicPr>
        <p:blipFill>
          <a:blip r:embed="rId2"/>
          <a:stretch/>
        </p:blipFill>
        <p:spPr>
          <a:xfrm>
            <a:off x="5181480" y="3886200"/>
            <a:ext cx="3372120" cy="25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a student (male or fema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warm up sh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normal sh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steps 1-5 till all students male and female have sho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Variabl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dependent – the number of shots they ge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pendent- the number of free throws mad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ontrolled- Boys and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yli- 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ckyn-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yn- 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i-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lie- 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e- 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yde-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ne-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a:hlinkClick r:id="rId1"/>
          </p:cNvPr>
          <p:cNvPicPr/>
          <p:nvPr/>
        </p:nvPicPr>
        <p:blipFill>
          <a:blip r:embed="rId2"/>
          <a:stretch/>
        </p:blipFill>
        <p:spPr>
          <a:xfrm>
            <a:off x="0" y="0"/>
            <a:ext cx="2171880" cy="1447920"/>
          </a:xfrm>
          <a:prstGeom prst="rect">
            <a:avLst/>
          </a:prstGeom>
          <a:ln w="0">
            <a:noFill/>
          </a:ln>
        </p:spPr>
      </p:pic>
      <p:pic>
        <p:nvPicPr>
          <p:cNvPr id="65" name="" descr="">
            <a:hlinkClick r:id="rId3"/>
          </p:cNvPr>
          <p:cNvPicPr/>
          <p:nvPr/>
        </p:nvPicPr>
        <p:blipFill>
          <a:blip r:embed="rId4"/>
          <a:stretch/>
        </p:blipFill>
        <p:spPr>
          <a:xfrm>
            <a:off x="6934320" y="0"/>
            <a:ext cx="22096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30:54Z</dcterms:created>
  <dc:creator>USD376</dc:creator>
  <dc:description/>
  <dc:language>en-US</dc:language>
  <cp:lastModifiedBy>USD376</cp:lastModifiedBy>
  <dcterms:modified xsi:type="dcterms:W3CDTF">2011-02-23T16:02:56Z</dcterms:modified>
  <cp:revision>14</cp:revision>
  <dc:subject/>
  <dc:title>Boys and girls free throws </dc:title>
</cp:coreProperties>
</file>